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1297-5989-4236-9028-F5A75A97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84B4-62D1-4311-80AB-CEDD2E44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9B04-23AF-4AD5-9DB6-62E5BCDD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26FD-2748-47A4-BAFC-D14BA3E8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0040-8499-484B-88ED-5BFD8FAC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0CC1-D48A-44CF-92C6-4680A9E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AD3F-EC2B-4E99-8F65-5E1328B8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6425-7AD8-48A2-9889-0EABA39A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B316-D08A-47C9-B9FE-3C5FD973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D73B-1972-4D51-8C3A-B03A11AF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9828-53C6-4EE8-AFAC-3975797A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1E12-47F7-46F0-A2AF-6E2294F1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850-8650-4F01-A003-60A8F9A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31F6-78D8-4184-AD5C-8DB88A0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1990-9F9E-40C5-AEB2-2EEBCA46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FE95-E76E-4998-B085-DAB7F096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1C61-106E-4589-A537-3575FC3E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C3A0-9F18-494F-8FA9-31137F8A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0DBC-19AE-426B-9F7C-09AEE6F0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B707-DC19-411D-AE84-971318E9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68E9-F980-4FEC-AEE0-919961CE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7C30-E269-462B-8CA8-73C90CA2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BBED-B133-4AC7-BA9C-C51A7F2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F5EA-39C7-4971-A993-BD28D86E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713640" y="141120"/>
            <a:ext cx="2428920" cy="674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8702-609B-48E3-B321-F1D945BB6A2B}" type="slidenum">
              <a:rPr b="0" lang="fi-FI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60336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13640" y="109440"/>
            <a:ext cx="2428920" cy="674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7854840" cy="107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B3CD-904E-4FDF-94C4-80931EA8239A}" type="slidenum"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260280"/>
            <a:ext cx="830160" cy="107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joneuvo- ja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uljetustekniik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turvallisuuden opett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al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yössäoppimisen työturvallisuusprojekt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  Huoltokui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urvallisuusohj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ilun ylittäminen, vain  siltaa pit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yppääminen  yli on ehdottomasti kiell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ilun kulkutie avoim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ukastumisva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va, Turvakilvet Oy, www.turvakilvet.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25640" y="1989000"/>
            <a:ext cx="2646360" cy="376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4D32-4D50-4852-AE22-9C8A957D55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  Pesutilat  ja niiden käytt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ittävä ilmanvaih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utilat erotettava muista tilo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ojavarust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ojapuku, kumisaappaat, käsin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uottimia käsiteltäessä hengityssuoj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tiapintojen liukk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2840" y="1989000"/>
            <a:ext cx="3359160" cy="362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77480-F2D0-45F0-AD84-61368C9384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 Harjapesuk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3640" y="2101680"/>
            <a:ext cx="383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uotinpesuaineen höyryiltä suojautu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japesukoneen läheisyydessä oleskelu vaaral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älä poistu autosta pesuohjelman aikan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69FD-14C7-42CC-BA28-4CDD3C8CFF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 Korkeapainepes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ttava korkeapaineista vesisuihk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ttava paineen aiheuttamaa työntövoi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ista kuitenkin suojata sähkölaitteet ja ole varovainen kastellessasi moottoritil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F9EF-F209-486E-9713-476963C357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Moottoritilan pe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uotin pesuaineen käyttö vaatii hengityksen- ja silmien suoja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ut suojavarus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 korkeaa paine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hkölaitteiden suojaus kosteud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olehdi moottoritilan kuivaus pesun jälk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1B2A-531F-4E3C-960E-C81116F1BF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 Moottoritilan pe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uma moo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uotin höyr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hkölai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3730680" cy="279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9940-CBDE-4185-8A7F-654FD03CC8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Käsityökal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1640" y="198900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uvitaltat (meissel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intolenkki, lenkkiav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lsyt ja väänt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oistyövälin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2205000"/>
            <a:ext cx="3809880" cy="35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5E8B-F555-4DC8-B56F-3AFA8D4134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1  Käsikäyttöiset sähkötoimiset laitteet ja koneet, viat ja häiriö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2101320"/>
            <a:ext cx="77040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 kone tai laite pysähtyy sähköhäiriön ta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ännä sen käyttökytkin 0-asent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olehdi, että uudelleenkäynnistys ei aiheuta vaar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hkölaite on tarkastettava tai vietävä huoltoon, 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neen sulakkeen tilalle vaihdettu uusi sulake pal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donsuojakatkaisija eli automaattisulake lauke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kavirtasuojakytkin lauke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4E8B-2433-49DA-B570-BD27148D58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 Paineilmakäyttöiset koneet ja lai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terin vään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eilmapisto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yn leikkaustyökal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laikkahiomak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lmahiomak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97EB-8FDB-433C-942F-555C941844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Hiomakon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16000" y="2421000"/>
            <a:ext cx="3527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ustu konekohtaisiin turvallisuusohjeisiin ennen työn aloitta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 silmien suojai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ötä kappale laikkaa vasten hita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lä kolhi laikk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1838520" cy="1190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5320" y="2060640"/>
            <a:ext cx="2776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9A3B-915A-46F3-99F2-16E86BDE67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yöturvallisuuden perust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ti ja opetus luokkahuone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esit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ttajan havainnollinen opastus työsal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öturvallisuust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in kuuluu 15 kysymystä ja jokaiseen kysymykseen 3 väittäm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 on hyväksytty, kun 80 % on oik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911B-9341-433C-96BF-9FC90F4EFE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1  Kulmahiomakoneen turvallinen käytt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88000" y="213372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ustu käyttöohje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än vaihdon ajaksi kone irrotettava verkkovirr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kasta laikan suojus ennen työn aloitta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ä työkonetta tukevasti kii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 varovainen reunoja työstäessä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6DE3-9C9F-489B-BD1E-01682D8A0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 Porakon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siporakon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hkökäyttö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kukäyttö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eilmakäyttö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kkiporakoneet  (pylväsporakone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CF8B-B34F-4F3C-9897-3C7156F29C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1  Turvallisuus ja pora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32000" y="2276640"/>
            <a:ext cx="309564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kät hiukset on suojat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äähineen käyt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ojala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kät / leveät  hihat sido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it kii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27320" y="2060640"/>
            <a:ext cx="3244680" cy="41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AE87-93EF-4EFB-BD07-CFA83074B3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2  Porattavan kappaleen kiinnit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1640" y="2276640"/>
            <a:ext cx="3745080" cy="39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innitä porattava kappale huol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älä koske metallilastuun kä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ä suojalas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ivoa porausjätteet metalliromun sek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305748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F8EB-FB29-40BD-95D5-FBCD925B0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itsa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87640" y="2101680"/>
            <a:ext cx="352908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ä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asuhitsauksessa suojalas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issa hitsauksissa mas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osuoja haala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ojakäsin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ää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596" t="1982" r="0" b="0"/>
          <a:stretch/>
        </p:blipFill>
        <p:spPr>
          <a:xfrm>
            <a:off x="1042920" y="2060640"/>
            <a:ext cx="3529080" cy="35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C14B6-68B5-40E7-B0B8-B962D5B7D8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.  Hitsaussav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ittävä ilmanvaih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deimurien käyt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vittaessa hengityksen suoja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63DC-19BA-47AD-BD6D-E3C210E25E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2  Tulityöt ja turvallisu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87280" y="2349360"/>
            <a:ext cx="56358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u työturvallisuudesta ennen kuin aloitat työ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työn vaa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65560" cy="35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82E4-CC33-453E-9B6E-5BEF0818BD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3 Kaasuhits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3745080" cy="38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urvavarus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asuletkujen vär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etyleen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una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stekaasu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oran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ppi 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  <a:ea typeface="Times New Roman"/>
              </a:rPr>
              <a:t>sin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59748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019E-D5E3-4199-ABEC-AA1A0E1305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3 Takaisku ja takat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kaiskus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iekki sammuu paukahtaen ja syttyy uudelleen suuttimen päässä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s takaiskut jatkuvat tutki niiden syy ennen kuin jatkat hitsau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katu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yntyy silloin, kun liekki takatulen jälkeen jatkaa palamistaan polttimen sisällä. Kuuluu viheltävä ääni ja suuttimesta tulee kipinöitä ja mustaa sav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6804-2C1A-4C89-BAF4-8F791A08C9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Akku ja lata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25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uha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ilytys ja käsit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so Autoalan työsuojeluopas s.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ittävä suojautuminen, suojalasit ja suojapu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övyttäv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äjähdysva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ä kipinö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A10F-F0A6-41EA-9842-D25AD465AA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yöhön valmistautu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1640" y="2492280"/>
            <a:ext cx="374508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iittävä yö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ipuolinen rav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iiku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uva www.tyovaatetus.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041560" cy="377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3904-AA23-4271-9F67-0D80A4D5C5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Nostu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 oma tunk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pilari no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pilarino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pilarino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itunk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oltonosturi , moo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ut nost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F6811-E643-4333-87F6-7C1F340E04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0  Nosturin käytt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timia ei saa ylikuormit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ustu nostimien omiin turvaohjeisiin ennen nost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älä mene varmistamattoman nostimen 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1D87-C43F-423F-B43F-D0284829AB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1 Hallinosturi eli Tun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36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etään vähäisiä korjauksia tehtäe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neuvo tuettava ns. pukeilla ehdottomasti ennen korjaustöiden aloit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0717-D9F9-4040-8CCA-1602F06CFF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2  Huoltopu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505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tunkin hydrauliikka ei pidä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a aina auton pysyminen ylhäällä tukipukkien av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va huoltopuk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3024000" cy="2095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18009" t="23319" r="32497" b="20635"/>
          <a:stretch/>
        </p:blipFill>
        <p:spPr>
          <a:xfrm>
            <a:off x="5292720" y="2637000"/>
            <a:ext cx="2309760" cy="25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D9D2-8D57-4DC3-B101-D2423ACB57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 1 - pilarinos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ä etua nelipilarinostimeen verratt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ä vaaratekijöitä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666880" y="3573360"/>
            <a:ext cx="38102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1CBF-E729-451F-80A2-DBB4F3F965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15.4    Akseliston kevenn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03280" y="2420640"/>
            <a:ext cx="350532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ventimen varmist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nu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oitta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rmistustap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809880" cy="2730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 flipV="1">
            <a:off x="3131640" y="3933720"/>
            <a:ext cx="158436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25D51-C2F5-4505-B39F-1DD8A12111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5    Nelipilari - nos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32168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ä huomioitav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kitus ja varmi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426708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EDDF-DFCA-4858-A4E0-B2B0B56CAF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6 Muita nosti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48036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EAC3-58BA-446F-BF82-248A588DBD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7 Muita nostimia jatkuu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12880" y="2060640"/>
            <a:ext cx="57182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2AD0-89AB-4981-BA02-12AF84DFB2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8 Lisää nosti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809880" cy="254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FDA41-95D4-479A-AE53-CD60FC1FB1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yöhön valmistautumin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360" y="1988640"/>
            <a:ext cx="396072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akointi on sallittu ainoastaan merkityillä tupakkapaiko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2052720"/>
            <a:ext cx="1384200" cy="137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4257000"/>
            <a:ext cx="424800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koholin ja huumausaineiden hallussapito ja niiden vaikutuksen alaisena oleminen on koulussa ja työpaikalla kiellet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36D9-C728-432D-9523-AF185E392B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 Rengasty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21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ustu rengaskoneen käyttöohjeis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kasta renkaan ja vanteen k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949560" cy="480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2F8F-4AE6-4D4D-9D61-246171BEC8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32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1  Renkaantäyttö turvallise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787640" y="2205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kaan täyttä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ytmetalli va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kaankaluston renkaat täytetään turvahäkiss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79252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6EDE-E847-40C3-B305-A5E0986790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2 Varotoimet rengastöiss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kaan täyttökes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70BE-4F2C-4B4E-B419-F644A63F879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3 Turvallisuus rengastöiss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32000" y="233856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ustu koneen käyttöohjees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ttele mitä t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data annettuja ohj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e huolell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sy neuvoa, ellet tied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81024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EF06-2B72-42DC-96E4-CADBCEF365B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.4  Raskaankaluston rengastyö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äjähdysvaa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kkorenkaalla varustettuja vanteita käsiteltäessä on noudatettava erityistä varovaisu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kaat täytettävä siihen tarkoitukseen valmistetun tukevan kehikon sisäll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C2B42-39C7-4C32-B198-0073EC918F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.5  Raskaankaluston rengastyö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292360" y="2101680"/>
            <a:ext cx="30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n rengashäkki on Tecalemit- merk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05FB-25D9-415D-A8B0-DF42E6A635C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6  Renkaan tasapaino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32360" y="2101680"/>
            <a:ext cx="352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ustu koneen käyttöohjeisiin ennen työn aloitt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kasta vanteen kiinnitys ennen koneen käynnistämi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ta kivet rankaan pinn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381024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D86D-AF13-4742-8C3F-34C6D504D26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7  Painon asent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ekijöitä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mi saattaa jäädä painon ja vasaran väl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kaan pyöriessä saattaa irrota kiviä tai nas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2637000"/>
            <a:ext cx="3809880" cy="28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D6A0-FA17-4923-9AAF-EE16BF097C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.8 Renkaan tasapainotus jatku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87640" y="210168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ekijöitä jatkuu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gasta asennettaessa saattaa sormi jäädä levypyörän ja akselin väl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2708280"/>
            <a:ext cx="380988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345D-BB8D-4DA1-9793-79735BF9BD3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 Testirata. Jarrute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58920" y="2101680"/>
            <a:ext cx="360036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rrujen te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kunvaimentimien te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nen käyttöä tutustu laitteen toimintaan ja käyttöohje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laitetta ei käytetä, pidä rullien päällä suojalevy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5300640"/>
            <a:ext cx="475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om. Kuvan testirataan kuuluvat suojaraita maalau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417492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4E80-EFF2-47B6-9376-B8A68C7F0AF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 Työpäivän aloi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ot, korut ja sormukset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kät hiukset suojattava / kiinnitettäv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ää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ean kokoiset suojahaal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vajalkin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ut suojavarusteet työn mu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01FE-E547-4F3E-98C1-569FDF3594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1   Testir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87640" y="2101680"/>
            <a:ext cx="405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radan käyt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ekij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turvallisu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263700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2103E-6172-4C3B-8161-C2B9D04429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2 Jarrujen test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 pyöriviä ru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omioi suojaetäisy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Älä tee korjauksia testauksen aik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2120" y="220500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C2CD-9D42-4FF1-9055-611146776AA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5. Järjestys ja siisteys työsalissa ja korjaamohalli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360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ärjestys ja siist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urvallisuut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övälineet paikoilleen käytön jälk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kuväylät pidettävä vapaina est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inteät koneet ja laitteet sijoitettava turvall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3809880" cy="330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4DCD-8DBA-4EF9-8025-8312EDB089F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1  Järjestys ja siist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36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ärjestys on turvallisu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ärjestyksessä olevat työvälineet löyty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auta työvälineet asianmukaisesti paikoilleen käytön jälk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BAE7-CC95-40D5-B6DF-26827102A63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1  Järjestys ja siist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559296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kee kaik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limääräiset aineet ja tavarat voivat aiheuttaa vahinkoa tai vaaratilanteita ollessaan kulkureitillä tai joutuessaan proses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ivoa työpiste päivittäin ja työn päättye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a, mihin työvälineet ja tarvikkeet voi jättää (mm. palova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ää viikonlopuiksi ja vapaapäiviksi kaapelit ja letkut keloille ja sammuta kon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712880" cy="23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1EA0-28F7-45BA-A1CA-A8BCC3B6B00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2 Työkalut löytyvä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4321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laitat ne käytön jälkeen paikoilleen..,  muistit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a, että työväline on ehjä, tarkastettu ja tarkoituksenmuka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ä viallisen laitteen käyttö, merkitse vika ja toimita laite huolt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a huomioon työskentelypaikan erityisvaatimu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13507" t="17666" r="19016" b="14379"/>
          <a:stretch/>
        </p:blipFill>
        <p:spPr>
          <a:xfrm>
            <a:off x="5076720" y="4076640"/>
            <a:ext cx="3382920" cy="22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75EA-1F79-475E-BD0B-8225D9F2A65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 Työvälin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ustu työvälineen käyttö- ja huolto-ohjeis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Älä poista työvälineen suojalaitteita tai varoitusmerkintö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ä tahaton käynnis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ilytä työvälinettä asianmukais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uta lainaamasi työväline puhdistettuna ja tarkistett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D138-44B6-46A6-9FDB-561ED9AC427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08000" y="1039680"/>
            <a:ext cx="7128000" cy="4776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2  Siist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920" y="479700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isti työympärist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ulta odotetaan  hyvää käytöstä ja siisteyttä työssä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5FDC-081E-4A86-9DD0-D0E554A060E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2  Kestäväkehit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stävä kehitys on asennekysym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vallisuus jätteiden lajittelu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7058" r="0" b="0"/>
          <a:stretch/>
        </p:blipFill>
        <p:spPr>
          <a:xfrm>
            <a:off x="2286000" y="3429000"/>
            <a:ext cx="45720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25E0-DB5E-4109-BA31-A326871318A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elmajätt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ö, kuljetus ja säilyttäminen on luvanvara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ilytetään niin, ettei niistä aiheudu vaaraa ihmisille tai ympäristö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merkiksi jäteöljyä, käytettyjä öljynsuodattimia tai muita ongelmajätteitä ei saa säilyttää ulkona avonaisissa astio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äiriötilanteessa rajaa vahinko ja ilmoita siitä työn valvojalle ja esimiehell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AB1A-9839-4B1F-AC74-CC4B48F627B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Useampi asentaja  saman auton pari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ä mitä teet ja mitä parisi te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ilant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 siirtä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ttorin käynnistä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vallisuusohj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1932120" cy="29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E63B-8795-43AD-92DA-DFD7D6FBDB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 Asiallinen ja siisti työt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ä huomioitavaa löydät kuvast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482436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3ED9-2BC8-414C-9F99-D955DD6DC08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olme turvallisuusvaatimus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292360" y="21016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lpp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ovaisu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mattitaidon lisäk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llo, käytös  ja kavereiden huomi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1460520" cy="237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4747-B907-4042-9D85-CFC833B294F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öturvallisuusk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ataan opiskelijan työturvallisuusos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väksytysti suoritettu koe oikeuttaa työturvallisuuspass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turvallisuuspassi ei korvaa työpaikkakohtaista lakisääteistä perehdyttäm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53D6-FFC1-484D-8CA8-39E3D9E6576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696000" cy="50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E04C1-67EC-4F62-9C45-152320F0722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itoksia mielenkiinno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270828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CEE4-BAE4-4FE1-BDC5-74AF30AB1B4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1 Hallin ovet ja turvallisu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ien käyt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taan kokonaan auki ja varmistet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jetaan huol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mien jääminen väl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kematon ovi paiskautuu tuulen voim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71F0-3489-43C2-A9CC-05FAFFFA7B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388280" cy="4926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1 Hallin ovet ja turvallisu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397F-0227-4D19-8F3D-2F842F13B3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2  Sähkökäyttöisen oven toimi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ami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ke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242100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DFD5-7F61-44EB-AA53-79D07518EF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7:07:20Z</dcterms:created>
  <dc:creator>dville</dc:creator>
  <dc:description/>
  <dc:language>en-US</dc:language>
  <cp:lastModifiedBy>Malli</cp:lastModifiedBy>
  <dcterms:modified xsi:type="dcterms:W3CDTF">2008-02-17T15:48:10Z</dcterms:modified>
  <cp:revision>8</cp:revision>
  <dc:subject/>
  <dc:title>Dia 1</dc:title>
</cp:coreProperties>
</file>